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ng Function and Disease</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ungs are soft, light, spongy, elastic organs that are responsible for aerating the blood. In humans each lung is encased in a thin membranous sac called the pleura, and each is connected with the trachea (windpipe) by its main bronchus (large air passageway) and with the heart by the pulmonary arteries. The basic function of the lungs is the gas exchange (oxygen and carbon dioxide) between the inhaled air and blood in the pulmonary circulation. Breathing becomes difficult, painful or impossible when the lungs are afflicted with disease. Most adults breathe in and out about 15 times per minute, taking in about a pint of air (0,47 l) each time. The air passes through the upper respiratory system and is warmed or cooled to body temperature, humidified and partially cleans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h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mon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l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veo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l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morphological characteristics of the lu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asic function of the lu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we inha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way does the body protect the lu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coughing, sneezing and swallowing reflexes clear a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chronic lung disea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leading cause of cancer deaths for both men and women in the United sta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smoking considered to be one of the causes of lung canc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lung canc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course of treatment depend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words opposite in meaning to the following words by adding certain prefixe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adjectives from the following noun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yn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h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e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veo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ryn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a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rite the following sentences in the Passive Voice:</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building three new hospitals in this town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s could use these scientific methods in their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scientists claim that smoking causes lung canc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llowed him enough money to perform his experi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will examine this patient immediat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experts have recognized his work as one of the b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as taking some tranquillizers the whole last wee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y had dressed his arm, the nurse brought in the penicill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in the right word:</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river of the bus was.....................injured. (serious/serious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go along this path. It doesn’t look.................(safe/saf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fell and cut himself......................(bad/bad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as a...................change in her behaviour. (sudden/sudden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young man behaves very......................(selfish/selfish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she always feel.....................before examinations? (nervous/nervous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peaks English.....................although he has learned it only for two years. (fluent/flu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upset about failing this exam. (terrible/terri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Емфизем значи споро гушење. Сићушне ваздушне кесице у плућима (алвеоле) бивају оштећене и губе способност допремања кисеоника у крв и отпремања угљен-диоксида из крви. Последица тога је слаба функција плућа. Главни симптом емфизема је отежано дисање које се све више погоршава са напредовањем обољења. У узнапредовалим фазама емфизема, пацијенту може да буде потребно давање кисеоника, а он сам не може да поднесе ни најмању физичку активност. Ово стање се тешко лечи, а исход је често фаталан. Емфизем је последица хроничне иритације дисајних органа. Пушење је изазивач у скоро сваком случају, с тим што дуготрајно излагање прашини, загађивачима ваздуха и хемијским испарењима може такође да има одређеног утицај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9T17:07:04Z</dcterms:modified>
  <cp:revision>13</cp:revision>
  <dc:subject/>
  <dc:title>Slide 1</dc:title>
</cp:coreProperties>
</file>